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65160" y="2476440"/>
            <a:ext cx="1107432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65160" y="5384880"/>
            <a:ext cx="1107432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65160" y="1320480"/>
            <a:ext cx="11074320" cy="71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36576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72000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11996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51992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028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5160" y="3416400"/>
            <a:ext cx="1107432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1440" y="6716880"/>
            <a:ext cx="11712600" cy="6858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65160" y="6477120"/>
            <a:ext cx="1107432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65160" y="8292600"/>
            <a:ext cx="110743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1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2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3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4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5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6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65160" y="1270080"/>
            <a:ext cx="1107432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Sleep Apnea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1638360" y="5130720"/>
            <a:ext cx="9715320" cy="33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Main Symptoms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06440" y="3098520"/>
            <a:ext cx="709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373680" indent="-373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Difficulty or inability to breathe regularly when sleeping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373680" indent="-373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Each episode of lack-of-breath is called an </a:t>
            </a:r>
            <a:r>
              <a:rPr b="0" i="1" lang="en-US" sz="3800" spc="-1" strike="noStrike">
                <a:solidFill>
                  <a:srgbClr val="ebcd9c"/>
                </a:solidFill>
                <a:latin typeface="Gill Sans"/>
              </a:rPr>
              <a:t>apnea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373680" indent="-373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e individual in question is usually unaware of his condition, and sleep apnea can go unnoticed for years before diagnosis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5"/>
          <a:stretch/>
        </p:blipFill>
        <p:spPr>
          <a:xfrm>
            <a:off x="7569360" y="3987720"/>
            <a:ext cx="5041800" cy="39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Obstructive Sleep Apnea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Most common form of sleep apnea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When the airway is physically blocked or collapsed during sleep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Air that is able to squeeze past through emits a snoring sound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orrelation between cases of obstructive sleep apnea and obesity is quite apparen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entral Sleep Apnea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385920" indent="-38592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A less common form of sleep apnea; often coexists with obstructive sleep apnea, but can exist by itself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385920" indent="-38592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When the brain fails to send adequate signals to the breathing muscles during sleep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385920" indent="-38592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entral sleep apnea hardly induces snoring.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385920" indent="-38592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omplex sleep apnea: combination of both obstructive and central sleep apnea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Physiological effects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64800" y="3098520"/>
            <a:ext cx="6591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377640" indent="-377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Neurological excitement – a 3-second increase in EEG frequency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377640" indent="-377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Blood oxygen desaturation by 3%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377640" indent="-377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onsequent symptoms in the aftermath (</a:t>
            </a:r>
            <a:r>
              <a:rPr b="0" i="1" lang="en-US" sz="3800" spc="-1" strike="noStrike">
                <a:solidFill>
                  <a:srgbClr val="ebcd9c"/>
                </a:solidFill>
                <a:latin typeface="Gill Sans"/>
              </a:rPr>
              <a:t>sequelae</a:t>
            </a: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) – fatigue, sleepiness in the daytime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5"/>
          <a:stretch/>
        </p:blipFill>
        <p:spPr>
          <a:xfrm>
            <a:off x="7772400" y="3759120"/>
            <a:ext cx="4317840" cy="438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